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EDFA-7CC5-4F65-B067-111B597EEC71}" type="datetime">
              <a:rPr b="0" lang="en-US" sz="1200" spc="-1" strike="noStrike">
                <a:solidFill>
                  <a:srgbClr val="000000"/>
                </a:solidFill>
                <a:latin typeface="Helvetica Neue Light"/>
              </a:rPr>
              <a:t>07/30/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4251F-3BA8-4EA9-9A8D-9C5229AB0740}"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A4B1A-B7CF-4B48-BC10-5FBEF36CA70F}"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86000"/>
          </a:bodyPr>
          <a:p>
            <a:pPr marL="22932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67720" indent="-2289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5004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33236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71468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714680" indent="-2293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714680" indent="-2293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75000"/>
          </a:bodyPr>
          <a:p>
            <a:pPr marL="199800" indent="-199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495000" indent="-199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828360" indent="-199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162080" indent="-199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495440" indent="-199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495440" indent="-19980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495440" indent="-19980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80000"/>
          </a:bodyPr>
          <a:p>
            <a:pPr marL="2743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274320" indent="-2743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274320" indent="-2743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274320" indent="-2743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274320" indent="-2743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274320" indent="-2743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274320" indent="-2743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78120" y="299880"/>
            <a:ext cx="530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Module Template</a:t>
            </a:r>
            <a:r>
              <a:rPr b="0" lang="en-US" sz="1200" spc="-1" strike="noStrike">
                <a:solidFill>
                  <a:srgbClr val="000000"/>
                </a:solidFill>
                <a:latin typeface="Helvetica Neue Light"/>
              </a:rPr>
              <a:t>: Subtitle; Version 1.0, Reviewed 9/15/11</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86000"/>
          </a:bodyPr>
          <a:p>
            <a:pPr marL="22932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67720" indent="-2289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5004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33236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71468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714680" indent="-2293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714680" indent="-2293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Preservation Strategies: </a:t>
            </a:r>
            <a:br>
              <a:rPr sz="4800"/>
            </a:br>
            <a:r>
              <a:rPr b="0" lang="en-US" sz="4800" spc="-1" strike="noStrike">
                <a:solidFill>
                  <a:srgbClr val="000000"/>
                </a:solidFill>
                <a:latin typeface="Helvetica Neue Light"/>
              </a:rPr>
              <a:t>Emerging standards for preservation</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onald Weaver</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Snow and Ice Data Center</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verview</a:t>
            </a:r>
            <a:endParaRPr b="0" lang="en-US" sz="4400" spc="-1" strike="noStrike">
              <a:solidFill>
                <a:srgbClr val="000000"/>
              </a:solidFill>
              <a:latin typeface="Helvetica Neue Light"/>
            </a:endParaRPr>
          </a:p>
        </p:txBody>
      </p:sp>
      <p:sp>
        <p:nvSpPr>
          <p:cNvPr id="745" name=""/>
          <p:cNvSpPr txBox="1"/>
          <p:nvPr/>
        </p:nvSpPr>
        <p:spPr>
          <a:xfrm>
            <a:off x="571320" y="2324160"/>
            <a:ext cx="11861640" cy="6565680"/>
          </a:xfrm>
          <a:prstGeom prst="rect">
            <a:avLst/>
          </a:prstGeom>
          <a:noFill/>
          <a:ln w="0">
            <a:noFill/>
          </a:ln>
        </p:spPr>
        <p:txBody>
          <a:bodyPr lIns="50760" rIns="50760" tIns="50760" bIns="50760" anchor="t">
            <a:normAutofit fontScale="86000"/>
          </a:bodyPr>
          <a:p>
            <a:pPr marL="229320" indent="-2293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any strategies and technologies exist that support data preservation.   To the extent possible the data management and data provider communities need to converge on a set of standards that support preservation.  Such standardization can increase data discovery, access, and use and reduce costs associated with data preservation</a:t>
            </a:r>
            <a:endParaRPr b="0" lang="en-US" sz="3400" spc="-1" strike="noStrike">
              <a:solidFill>
                <a:srgbClr val="606060"/>
              </a:solidFill>
              <a:latin typeface="Helvetica Neue"/>
            </a:endParaRPr>
          </a:p>
          <a:p>
            <a:pPr marL="229320" indent="-2293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e viewpoint necessary for preservation is distinctly different than that of the active user community.</a:t>
            </a:r>
            <a:endParaRPr b="0" lang="en-US" sz="3400" spc="-1" strike="noStrike">
              <a:solidFill>
                <a:srgbClr val="606060"/>
              </a:solidFill>
              <a:latin typeface="Helvetica Neue"/>
            </a:endParaRPr>
          </a:p>
          <a:p>
            <a:pPr marL="229320" indent="-22932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reservation implies relevancy and ability to access the data 20-50 years in the future on systems as yet not developed or conceived and for purposes unimagined.</a:t>
            </a:r>
            <a:endParaRPr b="0" lang="en-US" sz="3400" spc="-1" strike="noStrike">
              <a:solidFill>
                <a:srgbClr val="60606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Emerging Standards Categories</a:t>
            </a:r>
            <a:endParaRPr b="0" lang="en-US" sz="4400" spc="-1" strike="noStrike">
              <a:solidFill>
                <a:srgbClr val="000000"/>
              </a:solidFill>
              <a:latin typeface="Helvetica Neue Light"/>
            </a:endParaRPr>
          </a:p>
        </p:txBody>
      </p:sp>
      <p:sp>
        <p:nvSpPr>
          <p:cNvPr id="747"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When we speak of data standards it usually means standards for data access, distribution and preservation</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ata Format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Metadata:  including Digital Object Identifiers (DOI)     </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Ancillary and supporting data sets used in the production of the data se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Physical Storage:</a:t>
            </a:r>
            <a:endParaRPr b="0" lang="en-US" sz="28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Attributes of Standards for Preservation</a:t>
            </a:r>
            <a:endParaRPr b="0" lang="en-US" sz="4400" spc="-1" strike="noStrike">
              <a:solidFill>
                <a:srgbClr val="000000"/>
              </a:solidFill>
              <a:latin typeface="Helvetica Neue Light"/>
            </a:endParaRPr>
          </a:p>
        </p:txBody>
      </p:sp>
      <p:sp>
        <p:nvSpPr>
          <p:cNvPr id="749"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Data Formats</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herever possible non-proprietary and open source</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ell understood by the appropriate scientific discipline communities</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Well documented so that future users (20-50 years from now) can read the data</a:t>
            </a:r>
            <a:endParaRPr b="0" lang="en-US" sz="28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Metadata </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OAIS complian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SO compliant</a:t>
            </a:r>
            <a:endParaRPr b="0" lang="en-US" sz="28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If neither of the above at least follows common practices of the appropriate scientific communities</a:t>
            </a:r>
            <a:endParaRPr b="0" lang="en-US" sz="28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Attributes of Standards for Preservation</a:t>
            </a:r>
            <a:endParaRPr b="0" lang="en-US" sz="4400" spc="-1" strike="noStrike">
              <a:solidFill>
                <a:srgbClr val="000000"/>
              </a:solidFill>
              <a:latin typeface="Helvetica Neue Light"/>
            </a:endParaRPr>
          </a:p>
        </p:txBody>
      </p:sp>
      <p:sp>
        <p:nvSpPr>
          <p:cNvPr id="751" name=""/>
          <p:cNvSpPr txBox="1"/>
          <p:nvPr/>
        </p:nvSpPr>
        <p:spPr>
          <a:xfrm>
            <a:off x="571320" y="2324160"/>
            <a:ext cx="11861640" cy="6565680"/>
          </a:xfrm>
          <a:prstGeom prst="rect">
            <a:avLst/>
          </a:prstGeom>
          <a:noFill/>
          <a:ln w="0">
            <a:noFill/>
          </a:ln>
        </p:spPr>
        <p:txBody>
          <a:bodyPr lIns="50760" rIns="50760" tIns="50760" bIns="50760" anchor="t">
            <a:normAutofit fontScale="93000"/>
          </a:bodyPr>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Ancillary and supporting data:</a:t>
            </a: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Most data sets, especially geophyscial observations are derived from instrument data with ancillary data and calibration information.  It is essential that the ancillary data be preserved along with the primary data (instrument) data set</a:t>
            </a:r>
            <a:endParaRPr b="0" lang="en-US" sz="28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hese data need to be described (format, metadate etc.) to the same level as the primary data</a:t>
            </a:r>
            <a:endParaRPr b="0" lang="en-US" sz="2800" spc="-1" strike="noStrike">
              <a:solidFill>
                <a:srgbClr val="606060"/>
              </a:solidFill>
              <a:latin typeface="Helvetica Neue"/>
            </a:endParaRPr>
          </a:p>
          <a:p>
            <a:pPr marL="248040" indent="-2480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Physical Storage:</a:t>
            </a:r>
            <a:endParaRPr b="0" lang="en-US" sz="34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Digital data – the ‘bits’ must be stored on physical media and typically the data center migrates media as new systems emerge.  </a:t>
            </a:r>
            <a:endParaRPr b="0" lang="en-US" sz="2800" spc="-1" strike="noStrike">
              <a:solidFill>
                <a:srgbClr val="606060"/>
              </a:solidFill>
              <a:latin typeface="Helvetica Neue"/>
            </a:endParaRPr>
          </a:p>
          <a:p>
            <a:pPr lvl="1" marL="613800" indent="-2476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Helvetica Neue"/>
              </a:rPr>
              <a:t>The essential point is that media will change through time and the absolute fidelity of the bit transfer process must be guaranteed and documented</a:t>
            </a:r>
            <a:endParaRPr b="0" lang="en-US" sz="28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5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Several websites offer links to more general data management plan development.  We suggest starting with the following:</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http://esip.esipfed.org/resources</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Digital Curation Centre Plans (Useful checklist for developing a data management plan) </a:t>
            </a:r>
            <a:r>
              <a:rPr b="0" lang="en-US" sz="2000" spc="-1" strike="noStrike" u="sng">
                <a:solidFill>
                  <a:srgbClr val="606060"/>
                </a:solidFill>
                <a:uFillTx/>
                <a:latin typeface="Helvetica Neue"/>
              </a:rPr>
              <a:t>http://www.dcc.ac.uk/resources/data-management-plans</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University of California Curation Center (Data Planning Checklist) </a:t>
            </a:r>
            <a:r>
              <a:rPr b="0" lang="en-US" sz="2000" spc="-1" strike="noStrike" u="sng">
                <a:solidFill>
                  <a:srgbClr val="606060"/>
                </a:solidFill>
                <a:uFillTx/>
                <a:latin typeface="Helvetica Neue"/>
              </a:rPr>
              <a:t>http://www.cdlib.org/services/uc3/datamanagement/index.html</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Data Management and Publishing (MIT) http://libraries.mit.edu/guides/subjects/data-management/</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a:rPr>
              <a:t>Data Management and Publishing (Univ of Minnesota)</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a:rPr>
              <a:t>http://www.lib.umn.edu/datamanagement/funding#What1</a:t>
            </a:r>
            <a:endParaRPr b="0" lang="en-US" sz="20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ommon internet search terms</a:t>
            </a:r>
            <a:endParaRPr b="0" lang="en-US" sz="3400" spc="-1" strike="noStrike">
              <a:solidFill>
                <a:srgbClr val="606060"/>
              </a:solidFill>
              <a:latin typeface="Helvetica Neue"/>
            </a:endParaRPr>
          </a:p>
          <a:p>
            <a:pPr lvl="1"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a:t>
            </a:r>
            <a:r>
              <a:rPr b="0" lang="en-US" sz="2800" spc="-1" strike="noStrike">
                <a:solidFill>
                  <a:srgbClr val="000000"/>
                </a:solidFill>
                <a:latin typeface="Helvetica Neue"/>
              </a:rPr>
              <a:t>data management plan”</a:t>
            </a:r>
            <a:endParaRPr b="0" lang="en-US" sz="2800" spc="-1" strike="noStrike">
              <a:solidFill>
                <a:srgbClr val="606060"/>
              </a:solidFill>
              <a:latin typeface="Helvetica Neue"/>
            </a:endParaRPr>
          </a:p>
          <a:p>
            <a:pPr lvl="1"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a:t>
            </a:r>
            <a:r>
              <a:rPr b="0" lang="en-US" sz="2800" spc="-1" strike="noStrike">
                <a:solidFill>
                  <a:srgbClr val="000000"/>
                </a:solidFill>
                <a:latin typeface="Helvetica Neue"/>
              </a:rPr>
              <a:t>earth science data management”</a:t>
            </a:r>
            <a:endParaRPr b="0" lang="en-US" sz="28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5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List modules that are related</a:t>
            </a: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on Weaver</cp:lastModifiedBy>
  <dcterms:modified xsi:type="dcterms:W3CDTF">2012-02-26T16:01:59Z</dcterms:modified>
  <cp:revision>41</cp:revision>
  <dc:subject/>
  <dc:title>ESIP Federation 101</dc:title>
</cp:coreProperties>
</file>